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AE22-ACE4-44EF-9CCE-09F538F02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0B77-426A-4791-A2C0-FF23FA8D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4F29-C085-4378-B0B3-3FFF51CE4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A149-1601-4FF7-B568-26BA51146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A679-B66C-4006-8042-0CF889B6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0508-7CD9-498D-999F-354EC961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8353-A9E7-45A0-8479-D0404492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195F-250A-4292-9EF7-4C8D198E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173A-F9A8-464D-9962-F4FAF649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1AA0-1147-4C28-9509-492B4327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29C6-71F5-4C4B-A467-94F80DDF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4AC9-C9A0-48E8-AA59-A19D2B08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3CC0-F696-49AA-992D-825A7B3E19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8567640" cy="587700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503280" y="2492280"/>
            <a:ext cx="8209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دبر أمر الخلائ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4"/>
          <a:stretch/>
        </p:blipFill>
        <p:spPr>
          <a:xfrm>
            <a:off x="250920" y="4149720"/>
            <a:ext cx="8297640" cy="1224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5"/>
          <a:stretch/>
        </p:blipFill>
        <p:spPr>
          <a:xfrm>
            <a:off x="395280" y="5600880"/>
            <a:ext cx="825804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31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400536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ستدلال بالنشأة الأولى على النشأة الأخر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3"/>
          <a:stretch/>
        </p:blipFill>
        <p:spPr>
          <a:xfrm>
            <a:off x="900000" y="981000"/>
            <a:ext cx="8126640" cy="647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4"/>
          <a:stretch/>
        </p:blipFill>
        <p:spPr>
          <a:xfrm>
            <a:off x="900000" y="3357720"/>
            <a:ext cx="7961400" cy="64764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250920" y="170172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لحذر من الكفر وأه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136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1324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014640" y="4675320"/>
            <a:ext cx="3213000" cy="4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ان تحدث الآيات السابقة عن صدق رسالة محمد صلى الله عليه وسل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ذكرت الآيات بعض شبهات الكافرين حول الدين الإسلام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88822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50920" y="1951200"/>
            <a:ext cx="8713800" cy="4646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108000" y="888840"/>
            <a:ext cx="8928000" cy="955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179280" y="522936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صرف أمر الخلائ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87200" y="595008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ع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190520"/>
            <a:ext cx="4176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إ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عظمة وقدرة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عظمة الخلق تدل على عظم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خال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ثبات صفة استواء الله على العرش بكيفي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تليق بجلال الله وعظم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وحده هو مدبر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ك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قع شيء إل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قضاء وقدر الله سبحان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رد على المشركين الذين يطلبون الشفاعة 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ولياء والصالح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08000" y="5445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شفاعة المثبتة هي التي تطلب 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سبحان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08000" y="6021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استدلال بتوحيد الربوبية على توح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لو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ستحق للعبادة هو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خالق المدب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سباب الهداي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تفك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بعث والنشو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استدلال على النشأة الأخرى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نشأة الأو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بشير المؤمن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ثواب العظي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ذاب الكافرين في الا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ظي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6T06:43:20Z</dcterms:modified>
  <cp:revision>1901</cp:revision>
  <dc:subject/>
  <dc:title>عرض تقديمي في PowerPoint</dc:title>
</cp:coreProperties>
</file>